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D58-FC45-4E1E-B83A-89882396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88D1-3A8E-48CC-95F4-66AE74D5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BB57-6458-4D88-85EF-9339E164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6894-75F2-4461-B53B-6CAE2A18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BCB3-D5AE-42E9-98CB-43A1AC24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B9AA-18FA-40E5-B85D-36B54E4A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9977-D74B-477F-9D1D-9B59D613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BD71-1248-439A-8ACA-BB99D3E1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1D29-3411-4A05-94A2-A6A95145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CB2D-12CB-4F2F-A72C-EC80675F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A6E7-958A-4135-8F0A-6A68236B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B979-B15F-46E8-BA58-6415BF82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7DB4-C513-42DD-9779-90A0657DCE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4"/>
          <p:cNvSpPr/>
          <p:nvPr/>
        </p:nvSpPr>
        <p:spPr>
          <a:xfrm rot="2709000">
            <a:off x="910440" y="-1399680"/>
            <a:ext cx="9658440" cy="9661320"/>
          </a:xfrm>
          <a:prstGeom prst="pie">
            <a:avLst/>
          </a:prstGeom>
          <a:solidFill>
            <a:srgbClr val="00b0f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965520" y="2033280"/>
            <a:ext cx="2790720" cy="2790720"/>
            <a:chOff x="965520" y="2033280"/>
            <a:chExt cx="2790720" cy="2790720"/>
          </a:xfrm>
        </p:grpSpPr>
        <p:sp>
          <p:nvSpPr>
            <p:cNvPr id="43" name="圆角矩形 2"/>
            <p:cNvSpPr/>
            <p:nvPr/>
          </p:nvSpPr>
          <p:spPr>
            <a:xfrm rot="2709000">
              <a:off x="1380240" y="2448360"/>
              <a:ext cx="1968840" cy="196704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圆角矩形 6"/>
            <p:cNvSpPr/>
            <p:nvPr/>
          </p:nvSpPr>
          <p:spPr>
            <a:xfrm rot="2709000">
              <a:off x="1373400" y="2442240"/>
              <a:ext cx="1974240" cy="19724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" name="TextBox 12"/>
          <p:cNvSpPr/>
          <p:nvPr/>
        </p:nvSpPr>
        <p:spPr>
          <a:xfrm>
            <a:off x="4071960" y="1276200"/>
            <a:ext cx="485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西城区参加第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7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届北京青少年科技创新大赛组织工作培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3"/>
          <p:cNvSpPr/>
          <p:nvPr/>
        </p:nvSpPr>
        <p:spPr>
          <a:xfrm>
            <a:off x="4929120" y="53578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6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1473120" y="2541600"/>
            <a:ext cx="17146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146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10"/>
          <p:cNvSpPr/>
          <p:nvPr/>
        </p:nvSpPr>
        <p:spPr>
          <a:xfrm>
            <a:off x="928800" y="1643040"/>
            <a:ext cx="7286400" cy="471492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01680" y="142920"/>
            <a:ext cx="854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  </a:t>
            </a:r>
            <a:r>
              <a:rPr b="1" lang="zh-CN" sz="4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中学生科技创新成果竞赛规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071720" y="1571760"/>
            <a:ext cx="700056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项目分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中学生项目按项目申报者人数分为个人项目和集体项目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按年龄段分为初中项目和高中项目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按研究学科分为数学、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物理与天文学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、化学、动物学、植物学、微生物学、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生物化学与分子生物学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、医学与健康学、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环境科学与工程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算机科学与信息技术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、工程学、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能源科学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、行为与社会科学等</a:t>
            </a:r>
            <a:r>
              <a:rPr b="1" lang="en-US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13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个学科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b0f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158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10"/>
          <p:cNvSpPr/>
          <p:nvPr/>
        </p:nvSpPr>
        <p:spPr>
          <a:xfrm>
            <a:off x="785880" y="1428840"/>
            <a:ext cx="7572240" cy="485784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01680" y="142920"/>
            <a:ext cx="854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  </a:t>
            </a:r>
            <a:r>
              <a:rPr b="1" lang="zh-CN" sz="4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中学生科技创新成果竞赛规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000080" y="1500120"/>
            <a:ext cx="728676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申报者和申报项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中学生项目申报者为：现就读于三年制（或四年制初中、高中（包括中等师范学校、中等专业学校、职业中学、技工学校等）的学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每名学生在一届大赛上，只能申报一项科技创新成果竞赛项目（包括集体项目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申报者所申报的项目必须是从当年</a:t>
            </a:r>
            <a:r>
              <a:rPr b="1" lang="en-US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7</a:t>
            </a: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月</a:t>
            </a:r>
            <a:r>
              <a:rPr b="1" lang="en-US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日往前推不超过两年时间内完成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170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10"/>
          <p:cNvSpPr/>
          <p:nvPr/>
        </p:nvSpPr>
        <p:spPr>
          <a:xfrm>
            <a:off x="785880" y="1428840"/>
            <a:ext cx="7572240" cy="485784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01680" y="142920"/>
            <a:ext cx="854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  </a:t>
            </a:r>
            <a:r>
              <a:rPr b="1" lang="zh-CN" sz="4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中学生科技创新成果竞赛规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928800" y="1571760"/>
            <a:ext cx="735804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申报者和申报项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华文仿宋"/>
                <a:ea typeface="华文仿宋"/>
              </a:rPr>
              <a:t>连续多年的研究项目，如果曾经参加过以往的创新大赛，再次以同一选题申报参赛时，本次参赛的研究工作需持续一年以上，申报材料必须反映最新的研究工作和研究成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集体项目的申报者不得超过</a:t>
            </a:r>
            <a:r>
              <a:rPr b="1" lang="en-US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人，并且必须是同一地区、同一学历段的学生合作项目 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华文仿宋"/>
                <a:ea typeface="华文仿宋"/>
              </a:rPr>
              <a:t>每个项目最多只能申报三名辅导教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b0f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182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571680" y="1357200"/>
            <a:ext cx="8001000" cy="471492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674640" y="71280"/>
            <a:ext cx="854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科技辅导员科技创新成果竞赛规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785880" y="1500120"/>
            <a:ext cx="750096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项目分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科技辅导员项目按项目类型分为科技发明类、科教制作类、科技教育方案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b0f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194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10"/>
          <p:cNvSpPr/>
          <p:nvPr/>
        </p:nvSpPr>
        <p:spPr>
          <a:xfrm>
            <a:off x="214200" y="1071720"/>
            <a:ext cx="8643960" cy="514332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674640" y="71280"/>
            <a:ext cx="854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科技辅导员科技创新成果竞赛规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285840" y="1214280"/>
            <a:ext cx="864396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申报者和申报项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498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科技辅导员项目的申报者为：中小学校科学教师、科技辅导员，各级教育研究机构、校外科技教育机构和活动场所的科技教育工作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498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每个申报项目只能有一名申报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498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每名申报者在一届大赛上，只能申报一项参赛项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498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申报者所申报的科技发明类和科教制作类项目必须是从当年</a:t>
            </a:r>
            <a:r>
              <a:rPr b="1" lang="en-US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7</a:t>
            </a: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月</a:t>
            </a:r>
            <a:r>
              <a:rPr b="1" lang="en-US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日往前推不超过两年时间内完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498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连续多年的研究项目，如曾经参加过以往的创新大赛，再次以同一选题申报参赛时，必须反映最新的研究工作和研究成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206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10"/>
          <p:cNvSpPr/>
          <p:nvPr/>
        </p:nvSpPr>
        <p:spPr>
          <a:xfrm>
            <a:off x="642960" y="1214280"/>
            <a:ext cx="7858080" cy="492948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88800" y="142920"/>
            <a:ext cx="8541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“</a:t>
            </a:r>
            <a:r>
              <a:rPr b="1" lang="zh-CN" sz="40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十佳、优秀科技辅导员”评选规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785880" y="1214280"/>
            <a:ext cx="764388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申报条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申报者必须有科技创新成果竞赛项目参加本次大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申报者必须具有指导学生开展科技教育活动的经历并取得优异成绩、具备一定科学教育和科技活动经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申报者对青少年科技活动有正确的理念和认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申报者在三年内未曾获得过“十佳优秀科技辅导员”奖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218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0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10"/>
          <p:cNvSpPr/>
          <p:nvPr/>
        </p:nvSpPr>
        <p:spPr>
          <a:xfrm>
            <a:off x="1143000" y="1643040"/>
            <a:ext cx="7215120" cy="435780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642960" y="71280"/>
            <a:ext cx="854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少年儿童科学幻想绘画比赛规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285920" y="1643040"/>
            <a:ext cx="68580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申报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创新大赛举办当年</a:t>
            </a:r>
            <a:r>
              <a:rPr b="1" lang="en-US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7</a:t>
            </a: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月</a:t>
            </a:r>
            <a:r>
              <a:rPr b="1" lang="en-US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日之前，凡年龄为</a:t>
            </a:r>
            <a:r>
              <a:rPr b="1" lang="en-US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5-14</a:t>
            </a: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周岁的少年儿童，独立完成的科学幻想绘画作品，均可向当地竞赛组织机构申报参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注意：科学幻想绘画是指少年儿童通过对未来科学发展的畅想和展望，利用绘画形式表现出未来的人类生产、生活的情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230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10"/>
          <p:cNvSpPr/>
          <p:nvPr/>
        </p:nvSpPr>
        <p:spPr>
          <a:xfrm>
            <a:off x="571680" y="1357200"/>
            <a:ext cx="8143560" cy="478656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642960" y="71280"/>
            <a:ext cx="854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少年儿童科学幻想绘画比赛规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714240" y="1428840"/>
            <a:ext cx="77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作品形式：参赛作品的画种、绘画风格及使用材料不限，作品尺寸规格为</a:t>
            </a:r>
            <a:r>
              <a:rPr b="1" lang="en-US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4</a:t>
            </a: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非绘画类的美术作品与工艺品；画幅尺寸不符合规定；引入神鬼迷信故事内容等作品不接受申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所有作品绘制完成后，均需按要求拍摄成电子版照片，并保存好原始作品。照片文件格式一律要求为</a:t>
            </a:r>
            <a:r>
              <a:rPr b="1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jpg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格式，分辨率为</a:t>
            </a:r>
            <a:r>
              <a:rPr b="1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300dpi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242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4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10"/>
          <p:cNvSpPr/>
          <p:nvPr/>
        </p:nvSpPr>
        <p:spPr>
          <a:xfrm>
            <a:off x="826920" y="1428840"/>
            <a:ext cx="7345440" cy="378612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388800" y="71280"/>
            <a:ext cx="8541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青少年科技实践活动比赛规则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971640" y="1500120"/>
            <a:ext cx="720072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活动学科分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物质科学、生命科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地球环境与宇宙科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技术与工程、其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254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388800" y="71280"/>
            <a:ext cx="8541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青少年科技实践活动比赛规则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1143000" y="1500120"/>
            <a:ext cx="66438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申报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在校中小学生（包括中等师范学校、专业学校、职业学校、技工学校）均可以团队名义将其参与或组织的科技实践活动申报参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对于以学校或校外教育机构名义申报的活动，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参与活动的学生应占本校学生总数或本地区学生总数的</a:t>
            </a:r>
            <a:r>
              <a:rPr b="1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30%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以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指导教师不超过三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10"/>
          <p:cNvSpPr/>
          <p:nvPr/>
        </p:nvSpPr>
        <p:spPr>
          <a:xfrm>
            <a:off x="1071720" y="1357200"/>
            <a:ext cx="6858000" cy="435780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2"/>
          <p:cNvSpPr/>
          <p:nvPr/>
        </p:nvSpPr>
        <p:spPr>
          <a:xfrm rot="19139400">
            <a:off x="-745920" y="4197240"/>
            <a:ext cx="1595520" cy="1706760"/>
          </a:xfrm>
          <a:prstGeom prst="pie">
            <a:avLst/>
          </a:prstGeom>
          <a:solidFill>
            <a:srgbClr val="f9a1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圆角矩形 3"/>
          <p:cNvSpPr/>
          <p:nvPr/>
        </p:nvSpPr>
        <p:spPr>
          <a:xfrm rot="19139400">
            <a:off x="625320" y="2894040"/>
            <a:ext cx="1744920" cy="174456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圆角矩形 4"/>
          <p:cNvSpPr/>
          <p:nvPr/>
        </p:nvSpPr>
        <p:spPr>
          <a:xfrm rot="19139400">
            <a:off x="2152440" y="1564920"/>
            <a:ext cx="1744560" cy="1746360"/>
          </a:xfrm>
          <a:custGeom>
            <a:avLst/>
            <a:gdLst>
              <a:gd name="textAreaLeft" fmla="*/ 84960 w 1744560"/>
              <a:gd name="textAreaRight" fmla="*/ 1659600 w 1744560"/>
              <a:gd name="textAreaTop" fmla="*/ 84960 h 1746360"/>
              <a:gd name="textAreaBottom" fmla="*/ 1661400 h 1746360"/>
            </a:gdLst>
            <a:ahLst/>
            <a:rect l="textAreaLeft" t="textAreaTop" r="textAreaRight" b="textAreaBottom"/>
            <a:pathLst>
              <a:path w="21600" h="21622">
                <a:moveTo>
                  <a:pt x="3600" y="0"/>
                </a:moveTo>
                <a:arcTo wR="3600" hR="3600" stAng="16200000" swAng="-5400000"/>
                <a:lnTo>
                  <a:pt x="0" y="18022"/>
                </a:lnTo>
                <a:arcTo wR="3600" hR="3600" stAng="10800000" swAng="-5400000"/>
                <a:lnTo>
                  <a:pt x="18000" y="216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圆角矩形 5"/>
          <p:cNvSpPr/>
          <p:nvPr/>
        </p:nvSpPr>
        <p:spPr>
          <a:xfrm rot="19139400">
            <a:off x="369720" y="5684400"/>
            <a:ext cx="1744920" cy="1744920"/>
          </a:xfrm>
          <a:prstGeom prst="pie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圆角矩形 6"/>
          <p:cNvSpPr/>
          <p:nvPr/>
        </p:nvSpPr>
        <p:spPr>
          <a:xfrm rot="19139400">
            <a:off x="1886040" y="4365360"/>
            <a:ext cx="1746000" cy="174600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圆角矩形 7"/>
          <p:cNvSpPr/>
          <p:nvPr/>
        </p:nvSpPr>
        <p:spPr>
          <a:xfrm rot="19139400">
            <a:off x="3412800" y="3038040"/>
            <a:ext cx="1746360" cy="174456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1"/>
          <p:cNvSpPr/>
          <p:nvPr/>
        </p:nvSpPr>
        <p:spPr>
          <a:xfrm>
            <a:off x="8761320" y="0"/>
            <a:ext cx="2034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12"/>
          <p:cNvSpPr/>
          <p:nvPr/>
        </p:nvSpPr>
        <p:spPr>
          <a:xfrm>
            <a:off x="8400960" y="0"/>
            <a:ext cx="2034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898560" y="627120"/>
            <a:ext cx="6978600" cy="1008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f497d"/>
                </a:solidFill>
                <a:latin typeface="仿宋_GB2312"/>
                <a:ea typeface="仿宋_GB2312"/>
              </a:rPr>
              <a:t>我们需要了解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6572160" y="4929120"/>
            <a:ext cx="17146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266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8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矩形 10"/>
          <p:cNvSpPr/>
          <p:nvPr/>
        </p:nvSpPr>
        <p:spPr>
          <a:xfrm>
            <a:off x="1071720" y="1571760"/>
            <a:ext cx="7000560" cy="428616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317520" y="71280"/>
            <a:ext cx="854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科技创新成果竞赛评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1143000" y="1714680"/>
            <a:ext cx="678672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评审标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三自：自己选题、自己设计和研究、自己制作和撰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三性：创新性、科学性、实用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初评： 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淘汰</a:t>
            </a:r>
            <a:r>
              <a:rPr b="1" lang="en-US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％左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终评：一等奖 </a:t>
            </a:r>
            <a:r>
              <a:rPr b="1" lang="en-US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15</a:t>
            </a: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％  二等奖</a:t>
            </a:r>
            <a:r>
              <a:rPr b="1" lang="en-US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35</a:t>
            </a: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％  三等奖</a:t>
            </a:r>
            <a:r>
              <a:rPr b="1" lang="en-US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50</a:t>
            </a: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278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0"/>
          <p:cNvSpPr/>
          <p:nvPr/>
        </p:nvSpPr>
        <p:spPr>
          <a:xfrm>
            <a:off x="357120" y="1000080"/>
            <a:ext cx="8501040" cy="557208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214200" y="1000080"/>
            <a:ext cx="857268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微软雅黑"/>
                <a:ea typeface="微软雅黑"/>
              </a:rPr>
              <a:t>十佳优秀科技辅导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 “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十佳优秀科技辅导员奖” 每个代表队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至少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申报一项，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设申报上限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所有参加科技辅导员科技创新成果竞赛的教师均可报名，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三年内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获得十佳优秀科技辅导员不参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微软雅黑"/>
                <a:ea typeface="微软雅黑"/>
              </a:rPr>
              <a:t>青少年科技创意比赛（暂不申报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 “</a:t>
            </a:r>
            <a:r>
              <a:rPr b="0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青少年科技创意比赛”项目纳入展示类项目，不做现场答辩，同实践活动、科幻画项目。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待另行通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301680" y="142920"/>
            <a:ext cx="854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本届大赛的变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290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2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 10"/>
          <p:cNvSpPr/>
          <p:nvPr/>
        </p:nvSpPr>
        <p:spPr>
          <a:xfrm>
            <a:off x="357120" y="1000080"/>
            <a:ext cx="8501040" cy="557208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214200" y="1000080"/>
            <a:ext cx="857268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学学科变化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往届：物质科学，生命科学，地球与空间科学，技术与设计，行为与社会科学</a:t>
            </a:r>
            <a:r>
              <a:rPr b="0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 </a:t>
            </a:r>
            <a:r>
              <a:rPr b="0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个领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本届：物质科学、生命科学、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地球环境与宇宙科学</a:t>
            </a:r>
            <a:r>
              <a:rPr b="0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技术</a:t>
            </a:r>
            <a:r>
              <a:rPr b="0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、行为与社会科学</a:t>
            </a:r>
            <a:r>
              <a:rPr b="0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</a:t>
            </a:r>
            <a:r>
              <a:rPr b="0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个领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地球环境与宇宙科学</a:t>
            </a:r>
            <a:r>
              <a:rPr b="0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:</a:t>
            </a:r>
            <a:r>
              <a:rPr b="0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研究地球与宇宙中有关现象、事物和规律</a:t>
            </a:r>
            <a:r>
              <a:rPr b="0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,</a:t>
            </a:r>
            <a:r>
              <a:rPr b="0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人类与地球环境、地球与宇宙的关系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301680" y="142920"/>
            <a:ext cx="854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本届大赛的变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302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4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 10"/>
          <p:cNvSpPr/>
          <p:nvPr/>
        </p:nvSpPr>
        <p:spPr>
          <a:xfrm>
            <a:off x="357120" y="1000080"/>
            <a:ext cx="8501040" cy="557208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201600" y="1000080"/>
            <a:ext cx="857268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学学科变化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往届：按研究学科分为数学、计算机科学、物理学、地球与空间科学、工程学、动物学、植物学、微生物学、医药与健康学、化学、生物化学、环境科学、行为与社会科学等 </a:t>
            </a:r>
            <a:r>
              <a:rPr b="0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3 </a:t>
            </a:r>
            <a:r>
              <a:rPr b="0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个学科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本届：按研究学科分为数学、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计算机科学与信息技术</a:t>
            </a:r>
            <a:r>
              <a:rPr b="0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物理与天文学</a:t>
            </a:r>
            <a:r>
              <a:rPr b="0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、工程学、动物学、植物学、微生物学、医药与健康学、化学、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生物化学与分子生物学、环境科学与工程、</a:t>
            </a:r>
            <a:r>
              <a:rPr b="0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行为与社会科学、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能源科学</a:t>
            </a:r>
            <a:r>
              <a:rPr b="0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等</a:t>
            </a:r>
            <a:r>
              <a:rPr b="0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3 </a:t>
            </a:r>
            <a:r>
              <a:rPr b="0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个学科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301680" y="142920"/>
            <a:ext cx="854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本届大赛的变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3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314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6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矩形 10"/>
          <p:cNvSpPr/>
          <p:nvPr/>
        </p:nvSpPr>
        <p:spPr>
          <a:xfrm>
            <a:off x="357120" y="1000080"/>
            <a:ext cx="8501040" cy="557208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01600" y="1000080"/>
            <a:ext cx="857268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39b7"/>
                </a:solidFill>
                <a:latin typeface="微软雅黑"/>
                <a:ea typeface="微软雅黑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环境科学与工程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包括大气科学、气候科学、环境对生态系统影响、地球科学、水科学、生物降解、土地开垦、水土保护和改良、水资源管理、污染控制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废物的回收、管理和处置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b39b7"/>
                </a:solidFill>
                <a:latin typeface="微软雅黑"/>
                <a:ea typeface="微软雅黑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能源科学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包括替代燃料、燃料电池和电池发展、微生物燃料电池、太阳能材料、水力发电、核能、太阳能、火力发电、风能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2"/>
          <p:cNvSpPr/>
          <p:nvPr/>
        </p:nvSpPr>
        <p:spPr>
          <a:xfrm>
            <a:off x="301680" y="142920"/>
            <a:ext cx="854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本届大赛的变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图片 4" descr="微博图片"/>
          <p:cNvPicPr/>
          <p:nvPr/>
        </p:nvPicPr>
        <p:blipFill>
          <a:blip r:embed="rId1"/>
          <a:stretch/>
        </p:blipFill>
        <p:spPr>
          <a:xfrm>
            <a:off x="1081080" y="141120"/>
            <a:ext cx="6556320" cy="662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矩形 11"/>
          <p:cNvSpPr/>
          <p:nvPr/>
        </p:nvSpPr>
        <p:spPr>
          <a:xfrm>
            <a:off x="8761320" y="0"/>
            <a:ext cx="2034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 12"/>
          <p:cNvSpPr/>
          <p:nvPr/>
        </p:nvSpPr>
        <p:spPr>
          <a:xfrm>
            <a:off x="8400960" y="0"/>
            <a:ext cx="2034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498600" y="357120"/>
            <a:ext cx="7502400" cy="76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西城区申报工作安排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文本框 2"/>
          <p:cNvSpPr/>
          <p:nvPr/>
        </p:nvSpPr>
        <p:spPr>
          <a:xfrm>
            <a:off x="396720" y="1782720"/>
            <a:ext cx="7560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2060"/>
                </a:solidFill>
                <a:latin typeface="华文楷体"/>
                <a:ea typeface="华文楷体"/>
              </a:rPr>
              <a:t>、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12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月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、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、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5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，区级专家指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、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12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月</a:t>
            </a:r>
            <a:r>
              <a:rPr b="1" lang="en-US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8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日</a:t>
            </a:r>
            <a:r>
              <a:rPr b="1" lang="en-US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——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区级网申培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、</a:t>
            </a:r>
            <a:r>
              <a:rPr b="1" lang="en-US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12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月</a:t>
            </a:r>
            <a:r>
              <a:rPr b="1" lang="en-US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8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日</a:t>
            </a:r>
            <a:r>
              <a:rPr b="1" lang="en-US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——</a:t>
            </a:r>
            <a:r>
              <a:rPr b="1" lang="en-US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18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日：修改项目、网上申报、纸质材料校级审查、校级汇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2016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月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8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日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2:00——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西城区网上申报截止时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2016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月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9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日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5:00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纸质材料区级申报截止时间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5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、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12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月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20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日——区级汇总、整理、最后检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6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、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12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月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21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日——上交北京市组委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矩形 11"/>
          <p:cNvSpPr/>
          <p:nvPr/>
        </p:nvSpPr>
        <p:spPr>
          <a:xfrm>
            <a:off x="8761320" y="0"/>
            <a:ext cx="2034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12"/>
          <p:cNvSpPr/>
          <p:nvPr/>
        </p:nvSpPr>
        <p:spPr>
          <a:xfrm>
            <a:off x="8400960" y="0"/>
            <a:ext cx="2034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11"/>
          <p:cNvSpPr/>
          <p:nvPr/>
        </p:nvSpPr>
        <p:spPr>
          <a:xfrm>
            <a:off x="898560" y="627120"/>
            <a:ext cx="6978600" cy="1008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f497d"/>
                </a:solidFill>
                <a:latin typeface="仿宋_GB2312"/>
                <a:ea typeface="仿宋_GB2312"/>
              </a:rPr>
              <a:t>我们需要做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1"/>
          <p:cNvSpPr/>
          <p:nvPr/>
        </p:nvSpPr>
        <p:spPr>
          <a:xfrm>
            <a:off x="500040" y="2521080"/>
            <a:ext cx="6916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12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月</a:t>
            </a:r>
            <a:r>
              <a:rPr b="1" lang="en-US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8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日</a:t>
            </a:r>
            <a:r>
              <a:rPr b="1" lang="en-US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——</a:t>
            </a:r>
            <a:r>
              <a:rPr b="1" lang="en-US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18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日：修改项目、网上申报、纸质材料校级审查、校级汇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2016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月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8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日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2:00——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西城区网上申报截止时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2016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月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9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日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5:00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纸质材料区级申报截止时间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矩形 4"/>
          <p:cNvSpPr/>
          <p:nvPr/>
        </p:nvSpPr>
        <p:spPr>
          <a:xfrm>
            <a:off x="0" y="-7128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4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335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7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矩形 10"/>
          <p:cNvSpPr/>
          <p:nvPr/>
        </p:nvSpPr>
        <p:spPr>
          <a:xfrm>
            <a:off x="612720" y="1197000"/>
            <a:ext cx="7704360" cy="504036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639720" y="44280"/>
            <a:ext cx="854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修改项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828720" y="1343160"/>
            <a:ext cx="727236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用心看规则、看反馈意见和专家建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行文规范，实事求是（例如：文献、照片、图表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一定要认真撰写项目摘要！！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注意细节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工程项目：多检验、多操作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矩形 4"/>
          <p:cNvSpPr/>
          <p:nvPr/>
        </p:nvSpPr>
        <p:spPr>
          <a:xfrm>
            <a:off x="0" y="-7128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6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347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9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矩形 10"/>
          <p:cNvSpPr/>
          <p:nvPr/>
        </p:nvSpPr>
        <p:spPr>
          <a:xfrm>
            <a:off x="612720" y="1197000"/>
            <a:ext cx="7704360" cy="504036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639720" y="44280"/>
            <a:ext cx="854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网上申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828720" y="1343160"/>
            <a:ext cx="727236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、申报者须凭下发的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授权号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登陆“学生科技网”，</a:t>
            </a:r>
            <a:r>
              <a:rPr b="1" lang="en-US" sz="2800" spc="-1" strike="noStrike">
                <a:solidFill>
                  <a:srgbClr val="006c31"/>
                </a:solidFill>
                <a:latin typeface="仿宋_GB2312"/>
                <a:ea typeface="仿宋_GB2312"/>
              </a:rPr>
              <a:t>http://www.student.gov.cn/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进行网上申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申报者用户注册（登陆后可修改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申报者登录系统（帐号密码要牢记，进入全国比赛时都会用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按照提示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申报者在线申报（填写完整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62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10"/>
          <p:cNvSpPr/>
          <p:nvPr/>
        </p:nvSpPr>
        <p:spPr>
          <a:xfrm>
            <a:off x="642960" y="1785960"/>
            <a:ext cx="7858080" cy="414324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39720" y="44280"/>
            <a:ext cx="854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第</a:t>
            </a:r>
            <a:r>
              <a:rPr b="1" lang="en-US" sz="4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37</a:t>
            </a:r>
            <a:r>
              <a:rPr b="1" lang="zh-CN" sz="4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届北京青少年科技创新大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714240" y="1928880"/>
            <a:ext cx="800100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终评时间：</a:t>
            </a:r>
            <a:r>
              <a:rPr b="1" lang="en-US" sz="32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2017</a:t>
            </a:r>
            <a:r>
              <a:rPr b="1" lang="zh-CN" sz="32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年</a:t>
            </a:r>
            <a:r>
              <a:rPr b="1" lang="en-US" sz="32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月</a:t>
            </a:r>
            <a:r>
              <a:rPr b="1" lang="en-US" sz="32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23</a:t>
            </a:r>
            <a:r>
              <a:rPr b="1" lang="zh-CN" sz="32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日</a:t>
            </a:r>
            <a:r>
              <a:rPr b="1" lang="en-US" sz="32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—</a:t>
            </a:r>
            <a:r>
              <a:rPr b="1" lang="en-US" sz="32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26</a:t>
            </a:r>
            <a:r>
              <a:rPr b="1" lang="zh-CN" sz="32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举办地点：</a:t>
            </a:r>
            <a:r>
              <a:rPr b="1" lang="zh-CN" sz="32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怀柔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           </a:t>
            </a:r>
            <a:r>
              <a:rPr b="1" lang="zh-CN" sz="32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中国科学院大学（雁栖湖校区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大赛主题：</a:t>
            </a:r>
            <a:r>
              <a:rPr b="1" lang="zh-CN" sz="32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发现 创新 责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Discovery Innovation  Respon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矩形 4"/>
          <p:cNvSpPr/>
          <p:nvPr/>
        </p:nvSpPr>
        <p:spPr>
          <a:xfrm>
            <a:off x="0" y="-7128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359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矩形 10"/>
          <p:cNvSpPr/>
          <p:nvPr/>
        </p:nvSpPr>
        <p:spPr>
          <a:xfrm>
            <a:off x="612720" y="1197000"/>
            <a:ext cx="7704360" cy="504036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639720" y="44280"/>
            <a:ext cx="854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网上申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828720" y="1343160"/>
            <a:ext cx="727236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仿宋_GB2312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仿宋_GB2312"/>
                <a:ea typeface="仿宋_GB2312"/>
              </a:rPr>
              <a:t>、网上申报第</a:t>
            </a:r>
            <a:r>
              <a:rPr b="1" lang="en-US" sz="2800" spc="-1" strike="noStrike">
                <a:solidFill>
                  <a:srgbClr val="660066"/>
                </a:solidFill>
                <a:latin typeface="仿宋_GB2312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仿宋_GB2312"/>
                <a:ea typeface="仿宋_GB2312"/>
              </a:rPr>
              <a:t>项中的项目材料中</a:t>
            </a:r>
            <a:r>
              <a:rPr b="1" lang="zh-CN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必须</a:t>
            </a:r>
            <a:r>
              <a:rPr b="1" lang="zh-CN" sz="2800" spc="-1" strike="noStrike">
                <a:solidFill>
                  <a:srgbClr val="660066"/>
                </a:solidFill>
                <a:latin typeface="仿宋_GB2312"/>
                <a:ea typeface="仿宋_GB2312"/>
              </a:rPr>
              <a:t>上传查新报告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所有参赛项目应提供查新报告。选手可从“学生科技网”网站上下载查新报告模板，也可自行或在辅导教师指导下对类似项目进行检索，并说明自己的项目于他人的项目相比有哪些创新之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5</a:t>
            </a:r>
            <a:r>
              <a:rPr b="1" lang="zh-CN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、接受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区县管理人员材料检查（正式提交、等待管理员通过后方可认定申报成功，在线打印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371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矩形 10"/>
          <p:cNvSpPr/>
          <p:nvPr/>
        </p:nvSpPr>
        <p:spPr>
          <a:xfrm>
            <a:off x="857160" y="1214280"/>
            <a:ext cx="7388280" cy="504036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639720" y="44280"/>
            <a:ext cx="854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纸质申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571680" y="1343160"/>
            <a:ext cx="74293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网上和纸质材料申报均需按时完成，否则视同弃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纸质信息与网上申报信息必须保证完全一致，不一致者视为申报不合格，取消参赛资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所有参赛材料不退回，请自行做好材料备份工作，原始材料交复印件即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申报书上没有按要求手签字、盖章的，视为无效申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区组委会负责人负责项目资格审查，未经区组委会负责人审查的项目不能参赛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2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383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5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矩形 10"/>
          <p:cNvSpPr/>
          <p:nvPr/>
        </p:nvSpPr>
        <p:spPr>
          <a:xfrm>
            <a:off x="785880" y="1428840"/>
            <a:ext cx="7572240" cy="464328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639720" y="44280"/>
            <a:ext cx="854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科技创新成果竞赛纸质材料要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357120" y="1679400"/>
            <a:ext cx="7858080" cy="46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每个申报项目需要申报书、研究报告（论文）、原始材料、教师声明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一式一份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每个项目要填写项目申报书，</a:t>
            </a:r>
            <a:r>
              <a:rPr b="1" lang="zh-CN" sz="2800" spc="-1" strike="noStrike" u="sng">
                <a:solidFill>
                  <a:srgbClr val="0070c0"/>
                </a:solidFill>
                <a:uFillTx/>
                <a:latin typeface="仿宋_GB2312"/>
                <a:ea typeface="仿宋_GB2312"/>
              </a:rPr>
              <a:t>区科协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、</a:t>
            </a:r>
            <a:r>
              <a:rPr b="1" lang="zh-CN" sz="2800" spc="-1" strike="noStrike" u="sng">
                <a:solidFill>
                  <a:srgbClr val="0070c0"/>
                </a:solidFill>
                <a:uFillTx/>
                <a:latin typeface="仿宋_GB2312"/>
                <a:ea typeface="仿宋_GB2312"/>
              </a:rPr>
              <a:t>学校负责人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签字盖章。申报书与其它申报材料放在一起（</a:t>
            </a:r>
            <a:r>
              <a:rPr b="1" lang="zh-CN" sz="2800" spc="-1" strike="noStrike" u="sng">
                <a:solidFill>
                  <a:srgbClr val="0070c0"/>
                </a:solidFill>
                <a:uFillTx/>
                <a:latin typeface="仿宋_GB2312"/>
                <a:ea typeface="仿宋_GB2312"/>
              </a:rPr>
              <a:t>但不得装订成一份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），用一个档案袋单独封装，并将申报书首页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仿宋_GB2312"/>
                <a:ea typeface="仿宋_GB2312"/>
              </a:rPr>
              <a:t>复印后</a:t>
            </a:r>
            <a:r>
              <a:rPr b="1" lang="zh-CN" sz="2800" spc="-1" strike="noStrike" u="sng">
                <a:solidFill>
                  <a:srgbClr val="0070c0"/>
                </a:solidFill>
                <a:uFillTx/>
                <a:latin typeface="仿宋_GB2312"/>
                <a:ea typeface="仿宋_GB2312"/>
              </a:rPr>
              <a:t>贴在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档案袋或大信封</a:t>
            </a:r>
            <a:r>
              <a:rPr b="1" lang="zh-CN" sz="2800" spc="-1" strike="noStrike" u="sng">
                <a:solidFill>
                  <a:srgbClr val="0070c0"/>
                </a:solidFill>
                <a:uFillTx/>
                <a:latin typeface="仿宋_GB2312"/>
                <a:ea typeface="仿宋_GB2312"/>
              </a:rPr>
              <a:t>正面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论文类项目必须要求附原始材料（复印件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工程类项目必须提交作品的原理图或结构图，工程类只接受有实物的作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395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7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0"/>
          <p:cNvSpPr/>
          <p:nvPr/>
        </p:nvSpPr>
        <p:spPr>
          <a:xfrm>
            <a:off x="1378080" y="1557360"/>
            <a:ext cx="6002280" cy="407196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324000" y="115920"/>
            <a:ext cx="854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科学幻想绘画纸质材料要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784520" y="1844640"/>
            <a:ext cx="54514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提交作品原件一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申报书一式两份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，一份贴在作品原件背后，另一份与本区所有科学幻想绘画申报书汇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6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407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9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10"/>
          <p:cNvSpPr/>
          <p:nvPr/>
        </p:nvSpPr>
        <p:spPr>
          <a:xfrm>
            <a:off x="1187280" y="1662120"/>
            <a:ext cx="6409080" cy="428796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"/>
          <p:cNvSpPr/>
          <p:nvPr/>
        </p:nvSpPr>
        <p:spPr>
          <a:xfrm>
            <a:off x="352440" y="44280"/>
            <a:ext cx="854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优秀科技实践活动纸质材料要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1784520" y="1844640"/>
            <a:ext cx="56451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申报书一式一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主报告一式一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原始材料一份（复印件即可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封装方法同青少年科技创新成果竞赛项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419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矩形 10"/>
          <p:cNvSpPr/>
          <p:nvPr/>
        </p:nvSpPr>
        <p:spPr>
          <a:xfrm>
            <a:off x="1258920" y="1373040"/>
            <a:ext cx="6578640" cy="436104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2"/>
          <p:cNvSpPr/>
          <p:nvPr/>
        </p:nvSpPr>
        <p:spPr>
          <a:xfrm>
            <a:off x="639720" y="115920"/>
            <a:ext cx="854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科技辅导员科技创新成果竞赛纸质材料要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619280" y="1341360"/>
            <a:ext cx="619272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indent="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申报书一式一份（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首页要盖章</a:t>
            </a:r>
            <a:r>
              <a:rPr b="1" lang="zh-CN" sz="32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indent="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原理图、设计图、作品说明及照片一式一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indent="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封装方法同青少年科技创新成果竞赛项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indent="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indent="285840"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注意：不提交实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0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431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3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10"/>
          <p:cNvSpPr/>
          <p:nvPr/>
        </p:nvSpPr>
        <p:spPr>
          <a:xfrm>
            <a:off x="785880" y="1071720"/>
            <a:ext cx="7572240" cy="523224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495360" y="44280"/>
            <a:ext cx="854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西城区项目负责人及联系方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928800" y="1214280"/>
            <a:ext cx="735804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青少年科技创新成果竞赛申报管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黑体"/>
                <a:ea typeface="黑体"/>
              </a:rPr>
              <a:t>尹华军、李宝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科技辅导员科技创新成果竞赛项目、科技实践活动申报管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黑体"/>
                <a:ea typeface="黑体"/>
              </a:rPr>
              <a:t>李宝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科学幻想绘画申报管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黑体"/>
                <a:ea typeface="黑体"/>
              </a:rPr>
              <a:t>李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黑体"/>
                <a:ea typeface="黑体"/>
              </a:rPr>
              <a:t>联系电话：</a:t>
            </a:r>
            <a:r>
              <a:rPr b="1" lang="en-US" sz="3200" spc="-1" strike="noStrike">
                <a:solidFill>
                  <a:srgbClr val="002060"/>
                </a:solidFill>
                <a:latin typeface="黑体"/>
                <a:ea typeface="黑体"/>
              </a:rPr>
              <a:t>680441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8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2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443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5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矩形 10"/>
          <p:cNvSpPr/>
          <p:nvPr/>
        </p:nvSpPr>
        <p:spPr>
          <a:xfrm>
            <a:off x="785880" y="1197000"/>
            <a:ext cx="7572240" cy="496872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2"/>
          <p:cNvSpPr/>
          <p:nvPr/>
        </p:nvSpPr>
        <p:spPr>
          <a:xfrm>
            <a:off x="495360" y="44280"/>
            <a:ext cx="854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928800" y="1413000"/>
            <a:ext cx="73580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纸质材料上交地点及联系方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黑体"/>
                <a:ea typeface="黑体"/>
              </a:rPr>
              <a:t>西城区青少年科学技术馆活动部（西城区月坛北街三号</a:t>
            </a:r>
            <a:r>
              <a:rPr b="1" lang="en-US" sz="3200" spc="-1" strike="noStrike">
                <a:solidFill>
                  <a:srgbClr val="002060"/>
                </a:solidFill>
                <a:latin typeface="黑体"/>
                <a:ea typeface="黑体"/>
              </a:rPr>
              <a:t>105</a:t>
            </a:r>
            <a:r>
              <a:rPr b="1" lang="zh-CN" sz="3200" spc="-1" strike="noStrike">
                <a:solidFill>
                  <a:srgbClr val="002060"/>
                </a:solidFill>
                <a:latin typeface="黑体"/>
                <a:ea typeface="黑体"/>
              </a:rPr>
              <a:t>室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2016</a:t>
            </a:r>
            <a:r>
              <a:rPr b="1" lang="zh-CN" sz="32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年</a:t>
            </a:r>
            <a:r>
              <a:rPr b="1" lang="en-US" sz="32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12</a:t>
            </a:r>
            <a:r>
              <a:rPr b="1" lang="zh-CN" sz="32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月</a:t>
            </a:r>
            <a:r>
              <a:rPr b="1" lang="en-US" sz="32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18</a:t>
            </a:r>
            <a:r>
              <a:rPr b="1" lang="zh-CN" sz="32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日</a:t>
            </a:r>
            <a:r>
              <a:rPr b="1" lang="en-US" sz="32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12:00——</a:t>
            </a:r>
            <a:r>
              <a:rPr b="1" lang="zh-CN" sz="32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西城区网上申报截止时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2016</a:t>
            </a:r>
            <a:r>
              <a:rPr b="1" lang="zh-CN" sz="32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年</a:t>
            </a:r>
            <a:r>
              <a:rPr b="1" lang="en-US" sz="32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12</a:t>
            </a:r>
            <a:r>
              <a:rPr b="1" lang="zh-CN" sz="32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月</a:t>
            </a:r>
            <a:r>
              <a:rPr b="1" lang="en-US" sz="32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19</a:t>
            </a:r>
            <a:r>
              <a:rPr b="1" lang="zh-CN" sz="32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日</a:t>
            </a:r>
            <a:r>
              <a:rPr b="1" lang="en-US" sz="32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15:00</a:t>
            </a:r>
            <a:r>
              <a:rPr b="1" lang="zh-CN" sz="32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——</a:t>
            </a:r>
            <a:r>
              <a:rPr b="1" lang="zh-CN" sz="3200" spc="-1" strike="noStrike">
                <a:solidFill>
                  <a:srgbClr val="ff3399"/>
                </a:solidFill>
                <a:latin typeface="仿宋_GB2312"/>
                <a:ea typeface="仿宋_GB2312"/>
              </a:rPr>
              <a:t>纸质材料区级申报截止时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黑体"/>
                <a:ea typeface="黑体"/>
              </a:rPr>
              <a:t>微信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0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4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455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7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矩形 10"/>
          <p:cNvSpPr/>
          <p:nvPr/>
        </p:nvSpPr>
        <p:spPr>
          <a:xfrm>
            <a:off x="785880" y="1197000"/>
            <a:ext cx="7572240" cy="496872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495360" y="44280"/>
            <a:ext cx="854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928800" y="1413000"/>
            <a:ext cx="73580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黑体"/>
                <a:ea typeface="黑体"/>
              </a:rPr>
              <a:t>微信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楷体"/>
                <a:ea typeface="楷体"/>
              </a:rPr>
              <a:t>技术与工程项目初评时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楷体"/>
                <a:ea typeface="楷体"/>
              </a:rPr>
              <a:t>2017</a:t>
            </a:r>
            <a:r>
              <a:rPr b="1" lang="zh-CN" sz="4400" spc="-1" strike="noStrike">
                <a:solidFill>
                  <a:srgbClr val="ff3399"/>
                </a:solidFill>
                <a:latin typeface="楷体"/>
                <a:ea typeface="楷体"/>
              </a:rPr>
              <a:t>年</a:t>
            </a:r>
            <a:r>
              <a:rPr b="1" lang="en-US" sz="4400" spc="-1" strike="noStrike">
                <a:solidFill>
                  <a:srgbClr val="ff3399"/>
                </a:solidFill>
                <a:latin typeface="楷体"/>
                <a:ea typeface="楷体"/>
              </a:rPr>
              <a:t>1</a:t>
            </a:r>
            <a:r>
              <a:rPr b="1" lang="zh-CN" sz="4400" spc="-1" strike="noStrike">
                <a:solidFill>
                  <a:srgbClr val="ff3399"/>
                </a:solidFill>
                <a:latin typeface="楷体"/>
                <a:ea typeface="楷体"/>
              </a:rPr>
              <a:t>月</a:t>
            </a:r>
            <a:r>
              <a:rPr b="1" lang="en-US" sz="4400" spc="-1" strike="noStrike">
                <a:solidFill>
                  <a:srgbClr val="ff3399"/>
                </a:solidFill>
                <a:latin typeface="楷体"/>
                <a:ea typeface="楷体"/>
              </a:rPr>
              <a:t>7</a:t>
            </a:r>
            <a:r>
              <a:rPr b="1" lang="zh-CN" sz="4400" spc="-1" strike="noStrike">
                <a:solidFill>
                  <a:srgbClr val="ff3399"/>
                </a:solidFill>
                <a:latin typeface="楷体"/>
                <a:ea typeface="楷体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楷体"/>
                <a:ea typeface="楷体"/>
              </a:rPr>
              <a:t>外国专家大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楷体"/>
                <a:ea typeface="楷体"/>
              </a:rPr>
              <a:t>具体信息请等候通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楷体"/>
                <a:ea typeface="楷体"/>
              </a:rPr>
              <a:t>www.xckjg.c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感谢支持学生进行科学探索的老师和家长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495360" y="44280"/>
            <a:ext cx="854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28800" y="1413000"/>
            <a:ext cx="73580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99"/>
                </a:solidFill>
                <a:latin typeface="Calibri"/>
                <a:ea typeface="宋体"/>
              </a:rPr>
              <a:t>预祝同学们成功晋级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74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  <p:sp>
        <p:nvSpPr>
          <p:cNvPr id="78" name="矩形 10"/>
          <p:cNvSpPr/>
          <p:nvPr/>
        </p:nvSpPr>
        <p:spPr>
          <a:xfrm>
            <a:off x="573120" y="1573200"/>
            <a:ext cx="8501040" cy="492912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8245440" y="602136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660240" y="1716120"/>
            <a:ext cx="805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微软雅黑"/>
                <a:ea typeface="微软雅黑"/>
              </a:rPr>
              <a:t>两大板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黑体"/>
                <a:ea typeface="黑体"/>
              </a:rPr>
              <a:t>青少年板块：</a:t>
            </a: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科技创新成果竞赛、青少年科技实践活动、少年儿童科学幻想绘画比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黑体"/>
                <a:ea typeface="黑体"/>
              </a:rPr>
              <a:t>科技辅导员板块：</a:t>
            </a: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科技创新成果竞赛、优秀科技辅导员评选（十佳科技辅导员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微软雅黑"/>
                <a:ea typeface="微软雅黑"/>
              </a:rPr>
              <a:t>两个系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黑体"/>
                <a:ea typeface="黑体"/>
              </a:rPr>
              <a:t>竞赛活动系列：</a:t>
            </a: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小学生科技创新成果竞赛、中学生科技创新成果竞赛、科技辅导员科技创新成果竞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黑体"/>
                <a:ea typeface="黑体"/>
              </a:rPr>
              <a:t>展示活动系列：</a:t>
            </a: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少年儿童科学幻想绘画比赛、青少年科技实践活动比赛、青少年科技创意比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301680" y="142920"/>
            <a:ext cx="854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北京青少年科技创新大赛构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86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10"/>
          <p:cNvSpPr/>
          <p:nvPr/>
        </p:nvSpPr>
        <p:spPr>
          <a:xfrm>
            <a:off x="714240" y="1357200"/>
            <a:ext cx="7572600" cy="507204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301680" y="142920"/>
            <a:ext cx="854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青少年科技创新成果竞赛构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928800" y="1643040"/>
            <a:ext cx="72864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微软雅黑"/>
                <a:ea typeface="微软雅黑"/>
              </a:rPr>
              <a:t>青少年科技创新成果竞赛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各区科协按分配名额上报的项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5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申报</a:t>
            </a:r>
            <a:r>
              <a:rPr b="1" lang="en-US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—</a:t>
            </a: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初评</a:t>
            </a:r>
            <a:r>
              <a:rPr b="1" lang="en-US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—</a:t>
            </a: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终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可直接进入终评项目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5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北京青少年机器人竞赛创意设计比赛高中组前四名、初中组和小学组前三名（共</a:t>
            </a:r>
            <a:r>
              <a:rPr b="1" lang="en-US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10</a:t>
            </a: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98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10"/>
          <p:cNvSpPr/>
          <p:nvPr/>
        </p:nvSpPr>
        <p:spPr>
          <a:xfrm>
            <a:off x="785880" y="1357200"/>
            <a:ext cx="7429320" cy="428652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301680" y="0"/>
            <a:ext cx="854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参赛项目要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857160" y="1428840"/>
            <a:ext cx="735804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微软雅黑"/>
                <a:ea typeface="微软雅黑"/>
              </a:rPr>
              <a:t>青少年创新成果竞赛</a:t>
            </a:r>
            <a:r>
              <a:rPr b="1" lang="en-US" sz="3200" spc="-1" strike="noStrike">
                <a:solidFill>
                  <a:srgbClr val="ff3399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—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小学生、初中生的项目数量分别不少于总数的</a:t>
            </a:r>
            <a:r>
              <a:rPr b="1" lang="en-US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20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—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集体项目含在小学、初中、高中项目数量之内，且各不超过三个组别申报数的</a:t>
            </a:r>
            <a:r>
              <a:rPr b="1" lang="en-US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30</a:t>
            </a:r>
            <a:r>
              <a:rPr b="1" lang="zh-CN" sz="28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110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10"/>
          <p:cNvSpPr/>
          <p:nvPr/>
        </p:nvSpPr>
        <p:spPr>
          <a:xfrm>
            <a:off x="1285920" y="1428840"/>
            <a:ext cx="6072120" cy="435744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60440" y="71280"/>
            <a:ext cx="854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小学生科技创新成果竞赛规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357200" y="1643040"/>
            <a:ext cx="58579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项目分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按申报者人数分为个人项目和集体项目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按研究领域分为物质科学、生命科学、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地球环境与宇宙科学</a:t>
            </a: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技术</a:t>
            </a: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、行为与社会科学等</a:t>
            </a:r>
            <a:r>
              <a:rPr b="1" lang="en-US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5</a:t>
            </a:r>
            <a:r>
              <a:rPr b="1" lang="zh-CN" sz="2400" spc="-1" strike="noStrike">
                <a:solidFill>
                  <a:srgbClr val="002060"/>
                </a:solidFill>
                <a:latin typeface="仿宋_GB2312"/>
                <a:ea typeface="仿宋_GB2312"/>
              </a:rPr>
              <a:t>个领域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b0f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122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10"/>
          <p:cNvSpPr/>
          <p:nvPr/>
        </p:nvSpPr>
        <p:spPr>
          <a:xfrm>
            <a:off x="642960" y="1214280"/>
            <a:ext cx="7858080" cy="528660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603360" y="71280"/>
            <a:ext cx="854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小学生科技创新成果竞赛规则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857160" y="1214280"/>
            <a:ext cx="750096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申报者和申报项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4499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华文仿宋"/>
                <a:ea typeface="华文仿宋"/>
              </a:rPr>
              <a:t>小学生项目申报者为：现就读于六年制小学的在校学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4499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华文仿宋"/>
                <a:ea typeface="华文仿宋"/>
              </a:rPr>
              <a:t>每名学生在一届大赛上，</a:t>
            </a: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只能申报一项科技创新成果竞赛项目（包括集体项目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4499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华文仿宋"/>
                <a:ea typeface="华文仿宋"/>
              </a:rPr>
              <a:t>申报者所申报的项目必须是从</a:t>
            </a: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当年</a:t>
            </a:r>
            <a:r>
              <a:rPr b="1" lang="en-US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月</a:t>
            </a:r>
            <a:r>
              <a:rPr b="1" lang="en-US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日往前推不超过两年时间内完成的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oup 5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134" name="圆角矩形 15"/>
            <p:cNvSpPr/>
            <p:nvPr/>
          </p:nvSpPr>
          <p:spPr>
            <a:xfrm rot="2748000">
              <a:off x="301680" y="211320"/>
              <a:ext cx="493560" cy="486720"/>
            </a:xfrm>
            <a:prstGeom prst="pi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直角三角形 5"/>
          <p:cNvSpPr/>
          <p:nvPr/>
        </p:nvSpPr>
        <p:spPr>
          <a:xfrm rot="16200000">
            <a:off x="7307280" y="5020920"/>
            <a:ext cx="197820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0"/>
          <p:cNvSpPr/>
          <p:nvPr/>
        </p:nvSpPr>
        <p:spPr>
          <a:xfrm>
            <a:off x="642960" y="1214280"/>
            <a:ext cx="7858080" cy="5286600"/>
          </a:xfrm>
          <a:prstGeom prst="rect">
            <a:avLst/>
          </a:prstGeom>
          <a:noFill/>
          <a:ln w="38160">
            <a:solidFill>
              <a:srgbClr val="00b0f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03360" y="71280"/>
            <a:ext cx="8540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6092"/>
                </a:solidFill>
                <a:latin typeface="仿宋_GB2312"/>
                <a:ea typeface="仿宋_GB2312"/>
              </a:rPr>
              <a:t>小学生科技创新成果竞赛规则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785880" y="1285920"/>
            <a:ext cx="757224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申报者和申报项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4499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连续多年的研究项目，如果曾经参加过以往的创新大赛，再次以同一选题申报参赛时，本次参赛的研究工作需持续一年以上，申报材料必须反映最新的研究工作和研究成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4499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集体项目的申报者不得超过</a:t>
            </a:r>
            <a:r>
              <a:rPr b="1" lang="en-US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人，并且必须是同一区的小学生合作项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4499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华文仿宋"/>
                <a:ea typeface="华文仿宋"/>
              </a:rPr>
              <a:t>每个项目最多只能申报三名辅导教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4499"/>
              </a:lnSpc>
              <a:buClr>
                <a:srgbClr val="00206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10" descr="E:\然然\2010年\30届大赛\个性化邮票\创新大赛会标.jpg"/>
          <p:cNvPicPr/>
          <p:nvPr/>
        </p:nvPicPr>
        <p:blipFill>
          <a:blip r:embed="rId1"/>
          <a:stretch/>
        </p:blipFill>
        <p:spPr>
          <a:xfrm>
            <a:off x="-7920" y="0"/>
            <a:ext cx="8920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eeting</cp:lastModifiedBy>
  <dcterms:modified xsi:type="dcterms:W3CDTF">2016-12-08T06:01:16Z</dcterms:modified>
  <cp:revision>2</cp:revision>
  <dc:subject/>
  <dc:title>幻灯片 1</dc:title>
</cp:coreProperties>
</file>